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218-08B7-4365-B712-ACC518BB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F28-0A12-4053-B6E7-7F5D9BBD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596-F976-47BC-94DD-A21BF78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D51-C83D-4933-9DC1-D45F4446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DBAF-0873-4230-9474-66CD271C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58D7-30FD-4FB5-A718-314F6532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3E9A-5E23-4D63-8D12-9DAC2A8B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2764-6A5B-41EF-8E71-79020B8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D66D-3534-4F34-AB63-2C13775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455F-3501-4C8D-B3DB-DAE2C34D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229B-68AC-4815-A253-6331D75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FC5-CF41-4BB1-B909-BDDAE1B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4E1-4263-46BD-9844-DA103C28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C9A0-F64D-4EBE-997B-356CD371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CC2-B5CF-4426-A2DF-2FEBBCBD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BE41-CE55-43D0-B8E7-3FC65CAD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9A4E-D3D4-40B2-819E-EE892F5E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A72A-B54B-4493-B199-3779B499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C424-BE11-41EF-BAE6-490AE14E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B9FC5-9C86-437D-B00B-0EFBEE6B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F475-23B8-451A-A340-109DD483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B999-F8CE-428B-ACA9-F3DFD39F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0B4-F153-42AA-97B9-001B724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45FD-05B6-4D63-B92F-B5EF73D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E8C8-AE41-4A81-ABAD-BD3A84C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C3CF-7F00-4629-9575-2100E27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D6E7-9646-44AA-8B88-1B8C7CFE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7366A-B9D0-43C3-BCEF-7B123585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2E278-C53A-4E37-A284-C1643138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8F7A-E982-4D1C-B249-25C93D7C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3B406-F3F0-4C0F-8173-87F3C2FD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4C37-144E-422C-828B-BE777692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7246-ED4E-4435-BAEB-86270E6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1A2-5210-411E-946A-77FBD20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3611-1248-4FB7-9CE5-179E152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2E9B-EC87-4343-8FF2-2A50D39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D28E1-71F6-4872-BE26-E2A1397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6349F-9BE7-49A2-9C15-4D4DDA5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B6E1-F73C-4864-A9AD-208A2D0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4282-3A82-4A1B-B102-A71C3BFA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46A6-B1A4-4449-83D3-1159D127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12B80-5CEB-4991-B871-969E4D36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3AA8-3F88-4E0D-A255-D7455C37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E20BB-136C-4C10-A724-1ACE2516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99-FB56-4EEC-AF93-D19F28F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75C3-5D8B-497D-9B60-E6E8ADFE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A8642-28BE-4ADA-9CDA-AEBF0E8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E5E7-B3D7-489A-A876-8AA1FC32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C0EDF-DD46-4C7D-B85E-119D8292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7109-71AA-4658-8190-1808307A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87BE-01BB-4FB1-82EA-AEC6A7DA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860FB-9F3B-4C4B-9161-10B4A3C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CEB36-79FF-4739-9770-FCB9A39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CC026-9DFB-4BA0-9ED7-6D61E2C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00B8-3A48-423C-B037-F79CDF72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3CB-23B9-4386-AC7F-D93F39A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28116-F483-45FD-98DE-56DFA914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E8551-79F5-4C58-81F7-DB04AB17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0E12A-B50B-419F-B670-CD263DB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C3E8-FDB8-482F-8D96-CBCBD34F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B0160-BF9A-414A-8ACE-529466B2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5E2E-F135-4067-BA13-F80BAADF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2A8C-5184-4002-9EC5-199BD558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0646-2265-4EEA-BB2B-17D4592F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2C60-31E8-4001-8F58-6F3B605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2C51-B563-4543-B7B2-1D02DF7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295-A10A-4371-B8BE-3116CDB6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7777-9A88-46E5-9EB5-BAEB835B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0709-62CA-41E7-BED1-C9F71F15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E2667-5607-4120-97B7-7F9769AB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8F37-D163-4762-8FEB-149CE407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71E42-895F-4907-8E6E-67B790F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DFB9C-769E-44D2-89FC-6B6C143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8453E-6ADB-4537-B4F4-EB172BD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70020-61FF-4F45-9299-189557A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BCE8-1CAD-4A77-A81F-3906C308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C14E-EA44-46F1-9F7E-B6854B5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57C-561B-4870-BA42-BC68E37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1A06B-5838-42DC-B7FA-91931461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79F5-B788-4F01-B562-F60A69A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73A6-2CA2-459F-91D3-4277F392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A5ED3-8C6F-4573-A33E-2FFC584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DE6AD-34C8-4107-9338-85D77B8E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6E6-D2DB-4EF5-BAF4-49E851E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CCD-D5C2-4E67-8AE4-65B4775C0485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prstGeom prst="pie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C084-026B-4721-A56E-C6974EEA6F2B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prstGeom prst="pie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7724-15AC-42F0-BD44-80C37013C158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326-7CDD-4155-A671-18B555C7001E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EE22-2C3E-48ED-9EB3-33DEDB11AF20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E41E-EB93-4D22-81E2-7732FA0E42E4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prstGeom prst="pie">
            <a:avLst/>
          </a:prstGeom>
          <a:solidFill>
            <a:srgbClr val="4b79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44d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F4E1-39E5-4F08-88AB-028EC756B2E7}" type="slidenum">
              <a:rPr b="0" lang="en-US" sz="12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k-12.pisd.edu/guide/elemen/index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Use for Stude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computer makes school work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as there are rules in your classroom, in the Science lab, at home, and for crossing the street safely, there are rules for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b792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3a52"/>
                </a:solidFill>
                <a:latin typeface="Arial"/>
              </a:rPr>
              <a:t>The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C:\Documents and Settings\121hintza.RRISD\Local Settings\Temporary Internet Files\Content.IE5\ONW2JTGI\MPj04393590000[1].jpg"/>
          <p:cNvPicPr/>
          <p:nvPr/>
        </p:nvPicPr>
        <p:blipFill>
          <a:blip r:embed="rId1"/>
          <a:stretch/>
        </p:blipFill>
        <p:spPr>
          <a:xfrm>
            <a:off x="6095880" y="3809880"/>
            <a:ext cx="2793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304920"/>
            <a:ext cx="91440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Internet pages contain commercials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click on commercial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990720" y="304920"/>
            <a:ext cx="70866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ver sign-up for special offer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nd electronic gr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1219320" y="15429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4114800" y="4038480"/>
            <a:ext cx="182880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838080" y="457200"/>
            <a:ext cx="76964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he Internet, such as pictures, text, and documents should only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n a teacher has given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inter2aa"/>
          <p:cNvPicPr/>
          <p:nvPr/>
        </p:nvPicPr>
        <p:blipFill>
          <a:blip r:embed="rId1"/>
          <a:stretch/>
        </p:blipFill>
        <p:spPr>
          <a:xfrm>
            <a:off x="990720" y="27432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2"/>
          <a:srcRect l="0" t="-885" r="46009" b="0"/>
          <a:stretch/>
        </p:blipFill>
        <p:spPr>
          <a:xfrm>
            <a:off x="4952880" y="2743200"/>
            <a:ext cx="309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etting Start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380880" y="15238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ess Ctrl-Alt-Delete, then logon, each time you use a school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1"/>
          <a:srcRect l="0" t="4218" r="0" b="0"/>
          <a:stretch/>
        </p:blipFill>
        <p:spPr>
          <a:xfrm>
            <a:off x="2895480" y="2362320"/>
            <a:ext cx="3429000" cy="173340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2"/>
          <p:cNvSpPr/>
          <p:nvPr/>
        </p:nvSpPr>
        <p:spPr>
          <a:xfrm>
            <a:off x="380880" y="4115880"/>
            <a:ext cx="8458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hruti"/>
              </a:rPr>
              <a:t>Enter your username and password.    Do not change the bottom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666880" y="4724280"/>
            <a:ext cx="4038840" cy="1981440"/>
            <a:chOff x="2666880" y="4724280"/>
            <a:chExt cx="4038840" cy="1981440"/>
          </a:xfrm>
        </p:grpSpPr>
        <p:grpSp>
          <p:nvGrpSpPr>
            <p:cNvPr id="346" name="Group 3"/>
            <p:cNvGrpSpPr/>
            <p:nvPr/>
          </p:nvGrpSpPr>
          <p:grpSpPr>
            <a:xfrm>
              <a:off x="2666880" y="4724280"/>
              <a:ext cx="4038840" cy="1981440"/>
              <a:chOff x="2666880" y="4724280"/>
              <a:chExt cx="4038840" cy="1981440"/>
            </a:xfrm>
          </p:grpSpPr>
          <p:pic>
            <p:nvPicPr>
              <p:cNvPr id="347" name="Picture 4" descr="b "/>
              <p:cNvPicPr/>
              <p:nvPr/>
            </p:nvPicPr>
            <p:blipFill>
              <a:blip r:embed="rId2"/>
              <a:stretch/>
            </p:blipFill>
            <p:spPr>
              <a:xfrm>
                <a:off x="2666880" y="4724280"/>
                <a:ext cx="403884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"/>
              <p:cNvSpPr/>
              <p:nvPr/>
            </p:nvSpPr>
            <p:spPr>
              <a:xfrm>
                <a:off x="3414600" y="6000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6"/>
              <p:cNvSpPr/>
              <p:nvPr/>
            </p:nvSpPr>
            <p:spPr>
              <a:xfrm>
                <a:off x="3414600" y="5793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3414600" y="5586480"/>
                <a:ext cx="2543040" cy="2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8"/>
            <p:cNvSpPr/>
            <p:nvPr/>
          </p:nvSpPr>
          <p:spPr>
            <a:xfrm>
              <a:off x="3464640" y="6035040"/>
              <a:ext cx="244296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RRIS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urit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397880" y="1600200"/>
            <a:ext cx="58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 login as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121hintza.RRISD\Local Settings\Temporary Internet Files\Content.IE5\ONW2JTGI\MPj04393500000[1].jpg"/>
          <p:cNvPicPr/>
          <p:nvPr/>
        </p:nvPicPr>
        <p:blipFill>
          <a:blip r:embed="rId1"/>
          <a:stretch/>
        </p:blipFill>
        <p:spPr>
          <a:xfrm>
            <a:off x="259092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aving Problem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09480" y="1523880"/>
            <a:ext cx="7848720" cy="204876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can’t log on or you are having other issues: 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rea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your teacher what the problem is.  Computers don’t respond to pa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C:\Documents and Settings\121hintza.RRISD\Local Settings\Temporary Internet Files\Content.IE5\FEGHQT2A\MPj04331800000[1].jpg"/>
          <p:cNvPicPr/>
          <p:nvPr/>
        </p:nvPicPr>
        <p:blipFill>
          <a:blip r:embed="rId1"/>
          <a:stretch/>
        </p:blipFill>
        <p:spPr>
          <a:xfrm>
            <a:off x="2514600" y="3886200"/>
            <a:ext cx="365760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n you are don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838080" y="1447920"/>
            <a:ext cx="74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ure to log off of the computer, and leave all equipment in good order for the next per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0" t="9562" r="3733" b="0"/>
          <a:stretch/>
        </p:blipFill>
        <p:spPr>
          <a:xfrm>
            <a:off x="1523880" y="3352680"/>
            <a:ext cx="2210040" cy="21621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3886200"/>
            <a:ext cx="27338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f on a Laptop:  Shutdow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rcRect l="0" t="60383" r="76607" b="0"/>
          <a:stretch/>
        </p:blipFill>
        <p:spPr>
          <a:xfrm>
            <a:off x="838080" y="1828800"/>
            <a:ext cx="2638440" cy="3352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64" name="Rectangle 2"/>
          <p:cNvSpPr/>
          <p:nvPr/>
        </p:nvSpPr>
        <p:spPr>
          <a:xfrm>
            <a:off x="3581280" y="1981080"/>
            <a:ext cx="48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you use a laptop, shut down rather than log off when you are finished.  Make sure all lights are out prior to closing the li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838080" y="228600"/>
            <a:ext cx="7925040" cy="204372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replacing the laptop in a laptop cart, be sure to put the laptop in the slot number that matches the machine.  Reconnect the electrical pl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1974960" y="2408400"/>
            <a:ext cx="4816440" cy="4437000"/>
          </a:xfrm>
          <a:prstGeom prst="rect">
            <a:avLst/>
          </a:prstGeom>
          <a:ln w="0">
            <a:noFill/>
          </a:ln>
        </p:spPr>
      </p:pic>
      <p:sp>
        <p:nvSpPr>
          <p:cNvPr id="367" name="Oval 5"/>
          <p:cNvSpPr/>
          <p:nvPr/>
        </p:nvSpPr>
        <p:spPr>
          <a:xfrm>
            <a:off x="3429000" y="4648320"/>
            <a:ext cx="1295280" cy="1143000"/>
          </a:xfrm>
          <a:prstGeom prst="ellipse">
            <a:avLst/>
          </a:prstGeom>
          <a:noFill/>
          <a:ln w="73080">
            <a:solidFill>
              <a:srgbClr val="fb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7920" y="1295280"/>
            <a:ext cx="6095880" cy="26578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tion found on TV, video, and computers may be the property of someone el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this information only with per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respon4a"/>
          <p:cNvPicPr/>
          <p:nvPr/>
        </p:nvPicPr>
        <p:blipFill>
          <a:blip r:embed="rId1"/>
          <a:stretch/>
        </p:blipFill>
        <p:spPr>
          <a:xfrm>
            <a:off x="3048120" y="4125960"/>
            <a:ext cx="28191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cceptable Mea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mit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 you ca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OK to do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ever, there are guideline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http://www.potpiegirl.com/wp-content/uploads/2008/02/thumbs-up.jpg"/>
          <p:cNvPicPr/>
          <p:nvPr/>
        </p:nvPicPr>
        <p:blipFill>
          <a:blip r:embed="rId1"/>
          <a:stretch/>
        </p:blipFill>
        <p:spPr>
          <a:xfrm>
            <a:off x="1066680" y="1752480"/>
            <a:ext cx="1378080" cy="162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C:\Documents and Settings\121hintza.RRISD\Local Settings\Temporary Internet Files\Content.IE5\FEGHQT2A\MPj03905750000[1].jpg"/>
          <p:cNvPicPr/>
          <p:nvPr/>
        </p:nvPicPr>
        <p:blipFill>
          <a:blip r:embed="rId2"/>
          <a:stretch/>
        </p:blipFill>
        <p:spPr>
          <a:xfrm>
            <a:off x="6477120" y="2057400"/>
            <a:ext cx="2081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Using Technology is a Privilege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533520" y="342900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have any questions, be sure to ask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19320" y="1523880"/>
            <a:ext cx="6400800" cy="764280"/>
          </a:xfrm>
          <a:prstGeom prst="rect">
            <a:avLst/>
          </a:prstGeom>
          <a:gradFill rotWithShape="0">
            <a:gsLst>
              <a:gs pos="0">
                <a:srgbClr val="dbe5d8"/>
              </a:gs>
              <a:gs pos="100000">
                <a:srgbClr val="eaf3e8"/>
              </a:gs>
            </a:gsLst>
            <a:lin ang="3960000"/>
          </a:gradFill>
          <a:ln w="9360">
            <a:solidFill>
              <a:srgbClr val="487834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can be lost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C:\Documents and Settings\121hintza.RRISD\Local Settings\Temporary Internet Files\Content.IE5\F3CYUJ9H\MPj04308400000[1].jpg"/>
          <p:cNvPicPr/>
          <p:nvPr/>
        </p:nvPicPr>
        <p:blipFill>
          <a:blip r:embed="rId1"/>
          <a:stretch/>
        </p:blipFill>
        <p:spPr>
          <a:xfrm>
            <a:off x="4800600" y="2971800"/>
            <a:ext cx="36511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redi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57200" y="2209680"/>
            <a:ext cx="83059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s of this presentation are courtesy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ISD. Used with permission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 u="sng">
                <a:solidFill>
                  <a:srgbClr val="cb7e0e"/>
                </a:solidFill>
                <a:uFillTx/>
                <a:latin typeface="Arial"/>
                <a:hlinkClick r:id="rId1"/>
              </a:rPr>
              <a:t>http://k-12.pisd.edu/guide/elemen/index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ri West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nda Allen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by Angie Hintz, ITS for RRI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quipment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38080" y="182880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equipment, such as keyboards, mice, laptops, digital cameras, and headphones, should be handled with care and resp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Documents and Settings\121hintza.RRISD\Local Settings\Temporary Internet Files\Content.IE5\32GZV3NT\MPj04031590000[1].jpg"/>
          <p:cNvPicPr/>
          <p:nvPr/>
        </p:nvPicPr>
        <p:blipFill>
          <a:blip r:embed="rId1"/>
          <a:stretch/>
        </p:blipFill>
        <p:spPr>
          <a:xfrm>
            <a:off x="5791320" y="4038480"/>
            <a:ext cx="3130560" cy="209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C:\Documents and Settings\121hintza.RRISD\Local Settings\Temporary Internet Files\Content.IE5\FEGHQT2A\MPj04330530000[1].jpg"/>
          <p:cNvPicPr/>
          <p:nvPr/>
        </p:nvPicPr>
        <p:blipFill>
          <a:blip r:embed="rId2"/>
          <a:stretch/>
        </p:blipFill>
        <p:spPr>
          <a:xfrm>
            <a:off x="762120" y="3809880"/>
            <a:ext cx="2622600" cy="2500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121hintza.RRISD\Local Settings\Temporary Internet Files\Content.IE5\F3CYUJ9H\MPj03164350000[1].jpg"/>
          <p:cNvPicPr/>
          <p:nvPr/>
        </p:nvPicPr>
        <p:blipFill>
          <a:blip r:embed="rId3"/>
          <a:stretch/>
        </p:blipFill>
        <p:spPr>
          <a:xfrm>
            <a:off x="3352680" y="4343400"/>
            <a:ext cx="21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14400" y="1523880"/>
            <a:ext cx="71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Internet only when giv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ission by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C:\Documents and Settings\121hintza.RRISD\Local Settings\Temporary Internet Files\Content.IE5\FEGHQT2A\MPj04394160000[1].jpg"/>
          <p:cNvPicPr/>
          <p:nvPr/>
        </p:nvPicPr>
        <p:blipFill>
          <a:blip r:embed="rId1"/>
          <a:stretch/>
        </p:blipFill>
        <p:spPr>
          <a:xfrm>
            <a:off x="2666880" y="25909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C:\Documents and Settings\121hintza.RRISD\Local Settings\Temporary Internet Files\Content.IE5\FEGHQT2A\MPj04393440000[1].jpg"/>
          <p:cNvPicPr/>
          <p:nvPr/>
        </p:nvPicPr>
        <p:blipFill>
          <a:blip r:embed="rId1"/>
          <a:stretch/>
        </p:blipFill>
        <p:spPr>
          <a:xfrm>
            <a:off x="6784920" y="3962520"/>
            <a:ext cx="2359080" cy="27399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udent Internet U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support the educational goals and objectives of RR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educationall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upervised by adults at al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not type their own or others name, address, phone number or other personal information into any plac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internet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-selected web pages with staff supervision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wse me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ing through pages of a specific web site designated by the teacher to view the content of those particula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0" r="0" b="11598"/>
          <a:stretch/>
        </p:blipFill>
        <p:spPr>
          <a:xfrm>
            <a:off x="4648320" y="4230720"/>
            <a:ext cx="40384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at may students do on the computer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parental permission to use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n educational purpose for using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2743200" y="2895480"/>
            <a:ext cx="365436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rade 3, 4 and 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4 and 5 may search subject directories- Nettrekker, Yahooligans, those designated by the librarian or teacher to be student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s 3-5 may 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-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L’s directly into the address bar-  Studen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the address checked by the teacher before pressing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b792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C:\Documents and Settings\121hintza.RRISD\Local Settings\Temporary Internet Files\Content.IE5\32GZV3NT\MPj04393470000[1].jpg"/>
          <p:cNvPicPr/>
          <p:nvPr/>
        </p:nvPicPr>
        <p:blipFill>
          <a:blip r:embed="rId1"/>
          <a:stretch/>
        </p:blipFill>
        <p:spPr>
          <a:xfrm>
            <a:off x="7238880" y="48006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447920" y="609480"/>
            <a:ext cx="6172200" cy="1068840"/>
          </a:xfrm>
          <a:prstGeom prst="rect">
            <a:avLst/>
          </a:prstGeom>
          <a:solidFill>
            <a:srgbClr val="4b7937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 found on the Internet is NOT alway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inter3aa"/>
          <p:cNvPicPr/>
          <p:nvPr/>
        </p:nvPicPr>
        <p:blipFill>
          <a:blip r:embed="rId1"/>
          <a:stretch/>
        </p:blipFill>
        <p:spPr>
          <a:xfrm>
            <a:off x="2971800" y="1897200"/>
            <a:ext cx="2895480" cy="2446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5"/>
          <p:cNvSpPr/>
          <p:nvPr/>
        </p:nvSpPr>
        <p:spPr>
          <a:xfrm>
            <a:off x="1371600" y="4495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empus Sans ITC"/>
              </a:rPr>
              <a:t>Polka-dot cow found on an Austin far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21:20:09Z</dcterms:created>
  <dc:creator>amanda allen</dc:creator>
  <dc:description/>
  <dc:language>en-US</dc:language>
  <cp:lastModifiedBy>121hintza</cp:lastModifiedBy>
  <dcterms:modified xsi:type="dcterms:W3CDTF">2009-09-08T19:33:29Z</dcterms:modified>
  <cp:revision>42</cp:revision>
  <dc:subject/>
  <dc:title>Student Internet Use</dc:title>
</cp:coreProperties>
</file>